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4F0-E419-49FC-B76D-9ED1672C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594-0FAF-46BE-A173-DCDC4C1A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C5F-41C1-4471-9F35-2EFFBA47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E29-7E9A-4CCD-BC2D-4A22AD0F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C4B-477F-4BAD-9136-E1981EB7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FD6-C703-44DF-897A-44BF3AB1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881-FC3B-450B-A670-0CB33736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8FE-C635-4AEB-90AB-383E6194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06F-E838-46F8-A46B-BD579D69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449-79DE-4698-9EB4-FDA3EC1C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135-B6A2-4E99-B173-0B8961AD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CCD-F120-4789-A3FE-26F73B71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9393-11C2-47BD-B462-8B424978EE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TICAL REALIGNMENTS IN THE 1890’s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pter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411480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anic of 189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9120" y="1676520"/>
            <a:ext cx="800100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bruary, 1893: Industrial balloon p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ors sell stock to purchase g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leted Treasury (of gold) shakes confidence plummets U.S. into worst depression in U.S. histo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.S. falls into a state of upheaval and des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er strikes, Pullman riots, Coxey army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ericans accepted the need for government intervention to help the poor and job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esidential Election of 189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andidate:  William Jennings Bry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ee coinage of silver the main iss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ratio of silver to gold at 16: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ost the money su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en as solution to depr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lverites believed amount in circulation determined level of economic activ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ses election because eastern press favored McKinl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didate:  William McKinl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mised gold standard to restore prospe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promote economic prosperity BUT a need to regulate and control the effects of industrializ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IVI7233437"/>
          <p:cNvPicPr/>
          <p:nvPr/>
        </p:nvPicPr>
        <p:blipFill>
          <a:blip r:embed="rId1"/>
          <a:stretch/>
        </p:blipFill>
        <p:spPr>
          <a:xfrm>
            <a:off x="1981080" y="685800"/>
            <a:ext cx="5357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all look of Party Politics 1870’s-1890’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ocrats emphasize state’s rights and limited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ublicans see government as agent to promote moral progress and material w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eral influence wanes, state control 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eme Court makes land mark decisions in regard to t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nn v. Illino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(1877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bash case (1886) prompts establishment of Interstate Commerce Commission (IC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90 is the first billion dollar Con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88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DIVI7233TB2001"/>
          <p:cNvPicPr/>
          <p:nvPr/>
        </p:nvPicPr>
        <p:blipFill>
          <a:blip r:embed="rId1"/>
          <a:srcRect l="0" t="15700" r="0" b="0"/>
          <a:stretch/>
        </p:blipFill>
        <p:spPr>
          <a:xfrm>
            <a:off x="304920" y="2209680"/>
            <a:ext cx="853416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88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DIVI7233TB2002"/>
          <p:cNvPicPr/>
          <p:nvPr/>
        </p:nvPicPr>
        <p:blipFill>
          <a:blip r:embed="rId1"/>
          <a:srcRect l="0" t="12350" r="0" b="0"/>
          <a:stretch/>
        </p:blipFill>
        <p:spPr>
          <a:xfrm>
            <a:off x="304920" y="2057400"/>
            <a:ext cx="861048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IVI7233423"/>
          <p:cNvPicPr/>
          <p:nvPr/>
        </p:nvPicPr>
        <p:blipFill>
          <a:blip r:embed="rId1"/>
          <a:stretch/>
        </p:blipFill>
        <p:spPr>
          <a:xfrm>
            <a:off x="1828800" y="609480"/>
            <a:ext cx="5365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riffs, Trusts and Sil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7560"/>
            <a:ext cx="8229600" cy="51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90: McKinley Tariff raises duties to historic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s Pension Act: By 1893, 1 million receiving pensions from union arm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90: Sherman Anti-Trust Act regulates big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.S. vs. E.C. Knigh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rifies that law does not apply to manufactur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90: Sherman Silver Purchase Act moves country toward bi-metallic monetary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ise of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ulist Mov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76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ontented farmers of West and South provide base of suppor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s’ compl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prices for crops (although purchasing power rising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sing railroad rates (rates actually declin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rdensome mortgages (loans permit production expan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of farmers vary by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feeling of depression, resen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Fast-Grow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pulist Par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447560"/>
            <a:ext cx="8229600" cy="538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1880’s two powerful groups eme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rmers Alliance and Industrial Union (Southern Allia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thwestern Alliance (National Farmers Allianc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ala Demands become Populist plat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of government warehouses to hold crops for higher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e coinage of sil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tariff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eral income ta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election of Sena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ion of railro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DIVI7233428"/>
          <p:cNvPicPr/>
          <p:nvPr/>
        </p:nvPicPr>
        <p:blipFill>
          <a:blip r:embed="rId1"/>
          <a:stretch/>
        </p:blipFill>
        <p:spPr>
          <a:xfrm>
            <a:off x="2286000" y="609480"/>
            <a:ext cx="4621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6:08:02Z</dcterms:created>
  <dc:creator>HstM3</dc:creator>
  <dc:description/>
  <cp:keywords/>
  <dc:language>en-US</dc:language>
  <cp:lastModifiedBy>Thaddeus J. Brooks</cp:lastModifiedBy>
  <cp:lastPrinted>2012-09-11T10:32:31Z</cp:lastPrinted>
  <dcterms:modified xsi:type="dcterms:W3CDTF">2013-10-28T14:14:52Z</dcterms:modified>
  <cp:revision>22</cp:revision>
  <dc:subject/>
  <dc:title>POLITICAL REALIGNMENTS IN THE 1890s</dc:title>
</cp:coreProperties>
</file>